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99300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8AF1-46B1-42D1-A646-324F1EBFA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01CC-1517-4115-B7B1-75D6FEE7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024F-8E57-4C47-8537-43892384D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6DCD-82B7-47C1-A3F2-68C17C607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56C6-4CE0-4882-9A49-2C2D0E28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C3BE-8F89-4449-B2C4-5B615E35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56E1-6AFE-45F3-8968-0AABCEF1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6D9E-8665-4560-9188-82092DE7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AFF4-A678-4E6D-BD11-BE30F84B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80F8-11F2-4DB3-B538-A8C450C3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5D48-9E7B-4E96-A19F-6C75AEC6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11EA-0FC0-478D-BF1B-90AA379B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4E7C100-3726-4167-ABF1-7DB8E4ADE163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920" y="606600"/>
            <a:ext cx="1901880" cy="25905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9600" y="3544920"/>
            <a:ext cx="1890720" cy="26686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36440" y="146160"/>
            <a:ext cx="8915400" cy="307080"/>
          </a:xfrm>
          <a:prstGeom prst="rect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Arial"/>
              </a:rPr>
              <a:t>SINGLE-CHIP REAL-TIME DUAL BEAM FORMER WITH CORRELATION CAPABILITIES AT N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25600" y="490680"/>
            <a:ext cx="6164280" cy="26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 Virtex-5 FXT 100 FPGA/KIT ML5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2 twin Channels for FAN (but 24 complex gain sets), 24 (and later 32) channels for BAO cylinders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ull rate dual beam-forming for trigger  ~30K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ddition from 2 to 65536 dual square-modu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rrelation : Visibility of only one channel pair at the same time &lt;=&gt; full rate with effective trigger 390Hz for 78 visibilities (12 channels) =&gt; Source tracking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82840" y="5848200"/>
            <a:ext cx="27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sults on CasA trans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498760" y="3371760"/>
            <a:ext cx="2362320" cy="1255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498760" y="4581360"/>
            <a:ext cx="2362320" cy="1305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325600" y="3255840"/>
            <a:ext cx="2765520" cy="299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78400" y="5848200"/>
            <a:ext cx="27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sults on 3c123 trans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21160" y="3255840"/>
            <a:ext cx="2765520" cy="299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551560" y="3429000"/>
            <a:ext cx="2305080" cy="1214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5608800" y="4638600"/>
            <a:ext cx="2189160" cy="117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Deschamp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32BF-1EB8-42E6-B154-543FB66BC19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.3.2012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36440" y="146160"/>
            <a:ext cx="8915400" cy="307080"/>
          </a:xfrm>
          <a:prstGeom prst="rect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Arial"/>
              </a:rPr>
              <a:t>COMPUTATION OF THE VISIBILITIES WITH THE SAME FPGA AND ANOTHER FIRM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3680" y="2968560"/>
            <a:ext cx="83534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irtex 5 FxT 100 has 256 multipliers and 16 GtX transceivers : #16 at half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#32 at 1/8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KIT Virtex-6 ML623** (LXT 240) has 768 multipliers and 24 GTX transceivers = 48 channels of ADC board, and can perform full-rate correlation at #1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** $ 4995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3680" y="836640"/>
            <a:ext cx="8583480" cy="24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 channels : N(N+1)/2 elements in the visibility matrix =&gt; 2 multipliers on the diagonal + 4 multipliers on the other parts =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2N</a:t>
            </a:r>
            <a:r>
              <a:rPr b="0" lang="fr-FR" sz="16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 multipl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12 channels =&gt;  288 multipl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16 channels =&gt;  512 multipl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24 channels =&gt; 1152 multipl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32 channels=&gt; 2048 multipl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03280" y="4465800"/>
            <a:ext cx="1612800" cy="113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Deschamp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8C39-3A18-41FE-AFD1-CA2C546F45C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.3.2012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6440" y="146160"/>
            <a:ext cx="8915400" cy="307080"/>
          </a:xfrm>
          <a:prstGeom prst="rect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Arial"/>
              </a:rPr>
              <a:t>COMPUTATION OF THE VISIBILITIES WITH THE NEW VC707 VIRTEX-7 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620040" y="706320"/>
            <a:ext cx="2019240" cy="4152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62000" y="4876920"/>
            <a:ext cx="8982000" cy="1428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319640" y="1152360"/>
            <a:ext cx="2340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UNIBOAR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10,304 multiplieu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16x 10GbPS Rx+Tx (SFP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Visi 70 canaux /coup horlog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(10304/2)</a:t>
            </a:r>
            <a:r>
              <a:rPr b="0" lang="fr-FR" sz="1300" spc="-1" strike="noStrike" baseline="33000">
                <a:solidFill>
                  <a:srgbClr val="000000"/>
                </a:solidFill>
                <a:latin typeface="Arial"/>
              </a:rPr>
              <a:t>1/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398920" y="2879640"/>
            <a:ext cx="1082880" cy="180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5400720" y="2338560"/>
            <a:ext cx="1440" cy="54288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60360" y="1138320"/>
            <a:ext cx="2519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VC70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2800 multiplieu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16x 10GbPS Rx+Tx  (FMC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Visi 37 canaux /coup horlo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(2800/2)</a:t>
            </a:r>
            <a:r>
              <a:rPr b="0" lang="fr-FR" sz="1300" spc="-1" strike="noStrike" baseline="33000">
                <a:solidFill>
                  <a:srgbClr val="000000"/>
                </a:solidFill>
                <a:latin typeface="Arial"/>
              </a:rPr>
              <a:t>1/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3240000" y="1978200"/>
            <a:ext cx="1800" cy="288288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Deschamp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754E-1967-47B0-8977-FF170C5BCBDD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.3.2012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36440" y="146160"/>
            <a:ext cx="8915400" cy="307080"/>
          </a:xfrm>
          <a:prstGeom prst="rect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Arial"/>
              </a:rPr>
              <a:t>CLOCK DISTRIBUTION (DISTCLK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28800" y="4581360"/>
            <a:ext cx="311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70120" y="4178160"/>
            <a:ext cx="3282840" cy="3682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DISTCLK (emit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70040" y="4465800"/>
            <a:ext cx="922320" cy="9792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92360" y="4984920"/>
            <a:ext cx="1323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016080" y="4521240"/>
            <a:ext cx="1800" cy="46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6440" y="5560920"/>
            <a:ext cx="247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ontrol by external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95640" y="5041800"/>
            <a:ext cx="2708280" cy="2764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External 10MHz Reference C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262480" y="4520880"/>
            <a:ext cx="1800" cy="52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00080" y="2506680"/>
            <a:ext cx="2362320" cy="3682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DISTCLK (recei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016080" y="2850840"/>
            <a:ext cx="1800" cy="132876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16080" y="3371760"/>
            <a:ext cx="289080" cy="28728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5494320" y="2850840"/>
            <a:ext cx="1440" cy="132876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94320" y="3371760"/>
            <a:ext cx="289080" cy="28728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92440" y="3486240"/>
            <a:ext cx="149868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46040" y="2046240"/>
            <a:ext cx="460440" cy="4604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6440" y="1585800"/>
            <a:ext cx="241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8x RJ 45 Clock &amp; command for 8  ADC bo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86040" y="2162160"/>
            <a:ext cx="230040" cy="344520"/>
          </a:xfrm>
          <a:prstGeom prst="upArrow">
            <a:avLst>
              <a:gd name="adj1" fmla="val 50000"/>
              <a:gd name="adj2" fmla="val 374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98760" y="1585800"/>
            <a:ext cx="190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2x differential clocks for RF 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2506680"/>
            <a:ext cx="2361960" cy="3682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DISTCLK (recei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94320" y="2046240"/>
            <a:ext cx="460440" cy="4604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84720" y="1585800"/>
            <a:ext cx="241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8x RJ 45 Clock &amp; command for 8  ADC bo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34320" y="2162160"/>
            <a:ext cx="230040" cy="344520"/>
          </a:xfrm>
          <a:prstGeom prst="upArrow">
            <a:avLst>
              <a:gd name="adj1" fmla="val 50000"/>
              <a:gd name="adj2" fmla="val 374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47040" y="1585800"/>
            <a:ext cx="1901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2x differential clocks for RF 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84720" y="1469880"/>
            <a:ext cx="1440" cy="1785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Deschamp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05BD-1A76-4D8B-BE3D-30DC6D6115D3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.3.2012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6440" y="146160"/>
            <a:ext cx="8915400" cy="307080"/>
          </a:xfrm>
          <a:prstGeom prst="rect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Arial"/>
              </a:rPr>
              <a:t>ACTIONS A VEN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1079640"/>
            <a:ext cx="809964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RREL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Nançay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Visibilités en poursu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Gains obtenus par les visibilités du corrél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Dual beam avec ces gains en transit et/ou poursu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Papier Real-Time 2012 à Berkeley (si accepté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2855880"/>
            <a:ext cx="809964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ISTC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Mise au point routines de comman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Simplification du code C du FP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Mise au point de la carte réceptrice pour traitement de l'horloge fibre encodé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920000" y="4140360"/>
            <a:ext cx="1019160" cy="900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908840" y="49291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agia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099280" y="3780000"/>
            <a:ext cx="360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459640" y="378000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4421160"/>
            <a:ext cx="807084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U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Automatisation Acq LAL/Corrélateur/DISTCLK/Chari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Amelioration du firmware du FPGA corrél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RAZ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dividuel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de chaque MG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Monitoring de l’alignement, lock PLLs… sur chaque ca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Deschamp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5BC8-7845-4819-BE85-C843AD2958D1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.3.2012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17:50:51Z</dcterms:created>
  <dc:creator>deschamps</dc:creator>
  <dc:description/>
  <dc:language>en-US</dc:language>
  <cp:lastModifiedBy>deschamps</cp:lastModifiedBy>
  <dcterms:modified xsi:type="dcterms:W3CDTF">2012-03-29T17:37:50Z</dcterms:modified>
  <cp:revision>21</cp:revision>
  <dc:subject/>
  <dc:title>Diapositive 1</dc:title>
</cp:coreProperties>
</file>